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649-3277-48A5-B0FE-10C8C323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492-29FC-4B98-9CDB-9984C8F4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303-5979-4C30-9AA8-844C87D3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FB1-3C3D-44A1-B290-4C8222E8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16F-2B93-44C3-BF89-B5D52171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163-3623-4282-B11D-E51D07AC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E18-DFFA-4C6D-84AE-1819DFBF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406-0A6E-4BB9-AAE4-AE355A3E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AF1-8B42-4805-B9C0-F9227112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809-346A-4812-BD8C-A5024E60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60B-ED08-40D0-A865-854D024E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16B-4E0E-4065-8352-F677E764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A545-183A-46BB-8014-4A1253251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209680"/>
            <a:ext cx="9144000" cy="4648320"/>
            <a:chOff x="0" y="2209680"/>
            <a:chExt cx="9144000" cy="464832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0" y="2209680"/>
              <a:ext cx="5334120" cy="46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5334120" y="3124080"/>
              <a:ext cx="3809880" cy="254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l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Grade Physical Scienc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520" y="510552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s. C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13:38:02Z</dcterms:created>
  <dc:creator>neiu</dc:creator>
  <dc:description/>
  <dc:language>en-US</dc:language>
  <cp:lastModifiedBy>neiu</cp:lastModifiedBy>
  <dcterms:modified xsi:type="dcterms:W3CDTF">2008-07-28T14:34:25Z</dcterms:modified>
  <cp:revision>3</cp:revision>
  <dc:subject/>
  <dc:title>Slide 1</dc:title>
</cp:coreProperties>
</file>